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D86-885D-4715-948D-5F6FBF7E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058-27B5-43B0-8A94-B7715F12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B9F-248C-4D2E-89C3-B9BD8ED2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B3A-DF34-4DC6-A3F7-410141B0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34D-D8FC-4EF3-8175-F91F89CF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2BE-A4AC-4A16-8371-24AFCAF1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A51-5B2C-46DF-83D9-AC6905CA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418-2A63-44D3-9FD5-593344AD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3AE-7651-4371-983E-8E2EBE4D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87B-21CE-4D51-96C0-127467FF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E5E-5BD4-43DE-8D61-8A997E15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BD1-48AA-46AF-97B5-A6AEFE27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E5C-5DEB-4E52-9064-34D88C0B7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5.jpeg"/><Relationship Id="rId3" Type="http://schemas.openxmlformats.org/officeDocument/2006/relationships/image" Target="../media/image38.jpeg"/><Relationship Id="rId4" Type="http://schemas.openxmlformats.org/officeDocument/2006/relationships/image" Target="../media/image7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image" Target="../media/image25.jpeg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17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Spaghett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come no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2924280"/>
            <a:ext cx="4862520" cy="2684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3851280" cy="280836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nsavo così mentre rigiravo la forchetta in quella marea morbida e profum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ndo, all’improvviso una vocina sottile sottile mi ha apostrof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3492360" cy="400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56000" y="2997360"/>
            <a:ext cx="56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Bodoni MT Black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Bodoni MT Black"/>
              </a:rPr>
              <a:t>cosa credi tu? Che siamo soltanto tristi ed insoddisfatti fili di pasta? No, no… Noi proprio come voi siamo vivi e sappiamo suonare, ballare, cantare e molto altro…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este parole il mio piatto ha iniziato a muoversi con forza sempre crescente e gli spaghetti sono saltati in aria, raggomitolandosi e confondendosi, formando strane forme. Si sentiva una musica travolgente, ma allo stesso momento assordante, forse un tango di Piazzol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96360" y="2276640"/>
            <a:ext cx="1547640" cy="1307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516720" y="3860640"/>
            <a:ext cx="2627280" cy="1182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547640" y="3213000"/>
            <a:ext cx="1368720" cy="270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156360" y="2349360"/>
            <a:ext cx="1440000" cy="153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516720" y="5013360"/>
            <a:ext cx="2627280" cy="1844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0" y="3716280"/>
            <a:ext cx="1619280" cy="1197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0" y="907920"/>
            <a:ext cx="826920" cy="803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0" y="2205000"/>
            <a:ext cx="1008000" cy="1513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2050920" y="5157720"/>
            <a:ext cx="266544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4716360" y="5373720"/>
            <a:ext cx="2089080" cy="1484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0" y="5157720"/>
            <a:ext cx="2050920" cy="1700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4941720"/>
            <a:ext cx="64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doni MT Condensed"/>
              </a:rPr>
              <a:t>eppure nessuno, tranne me, sembrava accorgers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5364000" y="3860640"/>
            <a:ext cx="1474920" cy="129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4140360" y="3789360"/>
            <a:ext cx="1361880" cy="1019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5"/>
          <a:stretch/>
        </p:blipFill>
        <p:spPr>
          <a:xfrm>
            <a:off x="8317080" y="0"/>
            <a:ext cx="826920" cy="80316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ppure è bastato poco perché l’incanto finisse: il maìtre si è avvicinato per portarmi il vino e subito gli spaghetti si sono lanciati nel piatto, in ordine impeccab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3372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a quella sera, amici miei qualcosa è camb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e, quando mangio la pasta al sugo, non meravigliatevi se mi guardo att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ento una musica straordinaria e maledetta, che voi non potete riuscire a percep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un tango di Piazzolla, cred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107928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2448000" cy="1726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5445000"/>
            <a:ext cx="4932360" cy="141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516720" y="5084640"/>
            <a:ext cx="2627280" cy="1773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500720" y="5084640"/>
            <a:ext cx="2016000" cy="1773360"/>
          </a:xfrm>
          <a:prstGeom prst="rect">
            <a:avLst/>
          </a:prstGeom>
          <a:ln w="0">
            <a:noFill/>
          </a:ln>
        </p:spPr>
      </p:pic>
    </p:spTree>
  </p:cSld>
  <p:transition advTm="14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800" spc="-1" strike="noStrike">
                <a:solidFill>
                  <a:srgbClr val="000000"/>
                </a:solidFill>
                <a:latin typeface="Blackadder ITC"/>
              </a:rPr>
              <a:t>Altre volte invece, sento una musica diversa… non so come dire… più… cupa ecco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74872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488360" y="5229360"/>
            <a:ext cx="1655640" cy="1628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453800" y="5157720"/>
            <a:ext cx="15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h ah ah ah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orirete tut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750000" y="7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476856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amo come vo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iamo tanti (più di voi) e viviamo uno sull'altro; attorcigliati. Arrotolati in un gomitolo do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abbiamo senso da soli, ma insieme agli al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amo come vo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Mistura di diverse composizioni, cresciamo al sole e all’aria, stremati dal caldo e battuti dal vento, per far essiccare le lacrime, le scorie superflue, e tutto ciò che potrebbe intaccare la nostra perfe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5292720" cy="378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851280" cy="422100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poi ci lanciamo nella strada e viaggiam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ogni angolo del mon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165720"/>
            <a:ext cx="5689440" cy="552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0920" y="3141720"/>
            <a:ext cx="876600" cy="295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20" y="48690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i e sottil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5013360"/>
            <a:ext cx="56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rando che qualcuno ci scelga. Fin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56360" y="1413000"/>
            <a:ext cx="1517760" cy="158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667640" y="1052640"/>
            <a:ext cx="147636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708360" y="1557360"/>
            <a:ext cx="243540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564000" y="306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042920" y="1557360"/>
            <a:ext cx="2665440" cy="151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659640" y="5373720"/>
            <a:ext cx="1944720" cy="148428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amo come vo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Ci immergiamo nell’acqua bollente, ma non sappiamo resistere alla temperatura: ed allora ci ripieghiamo, ci abbattiamo e, anche per un insignificante minuto, rischiamo di perderci, per semp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4816440" cy="4221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4211640" cy="422100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3933360"/>
            <a:ext cx="543564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amo come voi. Cerchiamo il sale della vita, ma spesso non ci basta. Ed allora desideriamo nuovi sapori che ci possano completare, coronare, dare un sen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3527280" cy="2060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307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76720" y="1989000"/>
            <a:ext cx="3527280" cy="190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364000" y="3789360"/>
            <a:ext cx="3780000" cy="306864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2420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99"/>
                </a:solidFill>
                <a:latin typeface="Arial"/>
              </a:rPr>
              <a:t>Siamo come voi. Ci abbarbichiamo ad un sostegno, cerchiamo un punto di appiglio, per non scivol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2555640" cy="2421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3851280" cy="306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508720" y="3933720"/>
            <a:ext cx="3635280" cy="2924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211640" y="3357720"/>
            <a:ext cx="1028520" cy="350028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amo come vo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Bell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2987640" cy="1585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70028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1280" y="2205000"/>
            <a:ext cx="7848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ogliosi, colorati, perfetti, legger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56360" y="2781360"/>
            <a:ext cx="2374920" cy="151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4149720"/>
            <a:ext cx="76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endiamo che qualcuno ci mangi o ci divori, eppure non conosciamo mai il volto del nostro carne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516720" y="4941720"/>
            <a:ext cx="2448000" cy="1916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0" y="4941720"/>
            <a:ext cx="3564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564000" y="4941720"/>
            <a:ext cx="2952720" cy="191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059280" y="476280"/>
            <a:ext cx="2736720" cy="1657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2987640" y="2708280"/>
            <a:ext cx="1224000" cy="158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211640" y="278136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savo così, una sera d’autunno, in un ristorante affoll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4032000" cy="1943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64000" y="907920"/>
            <a:ext cx="3095640" cy="194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3068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ro di fronte ai miei fumanti spaghetti al sug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un giovane Maìtre mi aveva portato al tavolo con un radioso sorri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3492360" cy="2492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859280" y="4076640"/>
            <a:ext cx="3313080" cy="252108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7:13:54Z</dcterms:created>
  <dc:creator>Marco Alì il semidio</dc:creator>
  <dc:description/>
  <dc:language>en-US</dc:language>
  <cp:lastModifiedBy>Marco Alì il semidio</cp:lastModifiedBy>
  <dcterms:modified xsi:type="dcterms:W3CDTF">2007-07-20T23:08:38Z</dcterms:modified>
  <cp:revision>6</cp:revision>
  <dc:subject/>
  <dc:title>Spaghetti al suono</dc:title>
</cp:coreProperties>
</file>