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806-670B-480B-9D45-48123CAD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E7F-7DD1-4107-B535-5940965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AA7-FC2C-4D56-A2C3-BFBCB2EE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E27-A88F-4DA4-8B67-F9B77683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6AA-C9AC-49B0-945C-5A70EE2F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869-45D1-43B7-9C7C-07294CC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81D-5DBD-424E-9CB0-AF9BDAD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626-4CF9-4B88-A859-2209A41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F45-D5AA-427D-9707-9835B3AB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E51-7279-4F99-8638-E7697C6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3D8-CED8-4F0C-A259-26283FF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F26-7ECA-4FCA-B13D-5393810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3D5-B923-4AB2-BF25-54AE7ED231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478600" y="152280"/>
            <a:ext cx="130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Dopo il Grande SucceSSo del film pul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83808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0000"/>
                </a:solidFill>
                <a:latin typeface="Chiller"/>
              </a:rPr>
              <a:t>“ </a:t>
            </a:r>
            <a:r>
              <a:rPr b="1" lang="it-IT" sz="7200" spc="-1" strike="noStrike">
                <a:solidFill>
                  <a:srgbClr val="ff0000"/>
                </a:solidFill>
                <a:latin typeface="Chiller"/>
              </a:rPr>
              <a:t>La Piovra – Atto finale 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01992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2666880"/>
            <a:ext cx="3581280" cy="1524240"/>
          </a:xfrm>
          <a:prstGeom prst="cloudCallout">
            <a:avLst>
              <a:gd name="adj1" fmla="val -84439"/>
              <a:gd name="adj2" fmla="val -11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l finale dimmer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9939200">
            <a:off x="762120" y="151920"/>
            <a:ext cx="1276200" cy="360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22000">
            <a:off x="1981080" y="3657240"/>
            <a:ext cx="914400" cy="1138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88800" y="152280"/>
            <a:ext cx="70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E del cult porno-so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08520" y="1600200"/>
            <a:ext cx="60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0000"/>
                </a:solidFill>
                <a:latin typeface="Chiller"/>
              </a:rPr>
              <a:t>“ </a:t>
            </a:r>
            <a:r>
              <a:rPr b="1" lang="it-IT" sz="9600" spc="-1" strike="noStrike">
                <a:solidFill>
                  <a:srgbClr val="ff0000"/>
                </a:solidFill>
                <a:latin typeface="Chiller"/>
              </a:rPr>
              <a:t>Aprimi 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1371600"/>
            <a:ext cx="2438640" cy="1143000"/>
          </a:xfrm>
          <a:prstGeom prst="cloudCallout">
            <a:avLst>
              <a:gd name="adj1" fmla="val -47657"/>
              <a:gd name="adj2" fmla="val 1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rench Script MT"/>
              </a:rPr>
              <a:t>Ma dove vuoi andare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971800"/>
            <a:ext cx="2514600" cy="1066680"/>
          </a:xfrm>
          <a:prstGeom prst="cloudCallout">
            <a:avLst>
              <a:gd name="adj1" fmla="val -65907"/>
              <a:gd name="adj2" fmla="val 32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urlz MT"/>
              </a:rPr>
              <a:t>Umh, quanta rob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2174760" cy="129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9880" y="4876920"/>
            <a:ext cx="2590920" cy="1828800"/>
          </a:xfrm>
          <a:prstGeom prst="cloudCallout">
            <a:avLst>
              <a:gd name="adj1" fmla="val 68013"/>
              <a:gd name="adj2" fmla="val 1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lackadder ITC"/>
              </a:rPr>
              <a:t>Ah-ah-a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lackadder ITC"/>
              </a:rPr>
              <a:t>Ai miei tempi si usava il limone ragazz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504828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505320"/>
            <a:ext cx="4876920" cy="1828800"/>
          </a:xfrm>
          <a:prstGeom prst="wedgeEllipseCallout">
            <a:avLst>
              <a:gd name="adj1" fmla="val 26694"/>
              <a:gd name="adj2" fmla="val 8177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ff33"/>
                </a:solidFill>
                <a:latin typeface="Goudy Stout"/>
              </a:rPr>
              <a:t>BUR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802160" y="304920"/>
            <a:ext cx="111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La Compagnia dei Frutti di M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9880" y="1482840"/>
            <a:ext cx="70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In associazione c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2514600"/>
            <a:ext cx="106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Il ristorante “Da Mario Lor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51200" y="3733920"/>
            <a:ext cx="9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hiller"/>
              </a:rPr>
              <a:t>E con la collaborazione di Jhonny Vibr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85680" y="4835520"/>
            <a:ext cx="42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hiller"/>
              </a:rPr>
              <a:t>PRESENTA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320" y="152280"/>
            <a:ext cx="9067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0000"/>
                </a:solidFill>
                <a:latin typeface="Chiller"/>
              </a:rPr>
              <a:t>...OLOTURIE ASSASSI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19320" y="1600200"/>
          <a:ext cx="6713280" cy="50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13280" cy="5095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371600" y="3429000"/>
            <a:ext cx="1905120" cy="1905120"/>
          </a:xfrm>
          <a:prstGeom prst="cloudCallout">
            <a:avLst>
              <a:gd name="adj1" fmla="val 66416"/>
              <a:gd name="adj2" fmla="val 33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hiller"/>
              </a:rPr>
              <a:t>Vi Ammazzo Tutti Bastardi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676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Lucida Handwriting"/>
              </a:rPr>
              <a:t>6 un pezzo di merda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72160" cy="3282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4800" y="15228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00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256000">
            <a:off x="1617480" y="76176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ff"/>
                </a:solidFill>
                <a:latin typeface="Bookman Old Style"/>
              </a:rPr>
              <a:t>Dugongo!</a:t>
            </a:r>
            <a:r>
              <a:rPr b="1" lang="en-US" sz="5400" spc="-1" strike="noStrike" baseline="30000">
                <a:solidFill>
                  <a:srgbClr val="0000ff"/>
                </a:solidFill>
                <a:latin typeface="Bookman Old Style"/>
                <a:ea typeface="Arial"/>
              </a:rPr>
              <a:t>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6720" y="1036800"/>
            <a:ext cx="64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ff0000"/>
                </a:solidFill>
                <a:latin typeface="Chiller"/>
              </a:rPr>
              <a:t>Prod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971800"/>
            <a:ext cx="2971800" cy="1447920"/>
          </a:xfrm>
          <a:prstGeom prst="wedgeEllipseCallout">
            <a:avLst>
              <a:gd name="adj1" fmla="val -73504"/>
              <a:gd name="adj2" fmla="val 29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Kristen ITC"/>
              </a:rPr>
              <a:t>Vafangu’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Kristen ITC"/>
              </a:rPr>
              <a:t>Tie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5720" y="1316160"/>
            <a:ext cx="269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600" spc="-1" strike="noStrike">
                <a:solidFill>
                  <a:srgbClr val="ff0000"/>
                </a:solidFill>
                <a:latin typeface="Chiller"/>
              </a:rPr>
              <a:t> </a:t>
            </a:r>
            <a:r>
              <a:rPr b="1" i="1" lang="it-IT" sz="9600" spc="-1" strike="noStrike">
                <a:solidFill>
                  <a:srgbClr val="ff0000"/>
                </a:solidFill>
                <a:latin typeface="Chiller"/>
              </a:rPr>
              <a:t>C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65160" y="3581280"/>
            <a:ext cx="916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Chiller"/>
              </a:rPr>
              <a:t>In Ordine di Apparizion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4680" cy="330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038480" y="1600200"/>
            <a:ext cx="4800600" cy="2895480"/>
          </a:xfrm>
          <a:prstGeom prst="wedgeEllipseCallout">
            <a:avLst>
              <a:gd name="adj1" fmla="val -84986"/>
              <a:gd name="adj2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ff"/>
                </a:solidFill>
                <a:latin typeface="Matisse ITC"/>
              </a:rPr>
              <a:t>Ciao Ragaz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 rot="20237400">
            <a:off x="2590200" y="1218960"/>
            <a:ext cx="2590560" cy="3047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477120" y="4292640"/>
            <a:ext cx="2209680" cy="256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15200" y="2971800"/>
            <a:ext cx="1828800" cy="1523880"/>
          </a:xfrm>
          <a:prstGeom prst="cloudCallout">
            <a:avLst>
              <a:gd name="adj1" fmla="val -17708"/>
              <a:gd name="adj2" fmla="val 7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Juice ITC"/>
              </a:rPr>
              <a:t>Che idea cre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Juice ITC"/>
              </a:rPr>
              <a:t>. . .</a:t>
            </a:r>
            <a:r>
              <a:rPr b="1" lang="it-IT" sz="2400" spc="-1" strike="noStrike">
                <a:solidFill>
                  <a:srgbClr val="669900"/>
                </a:solidFill>
                <a:latin typeface="Juice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048120"/>
            <a:ext cx="1828800" cy="1371600"/>
          </a:xfrm>
          <a:prstGeom prst="cloudCallout">
            <a:avLst>
              <a:gd name="adj1" fmla="val -34375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Harlow Solid Italic"/>
              </a:rPr>
              <a:t>Sta’ zitta e tieni il fiato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981080"/>
            <a:ext cx="2666880" cy="1219320"/>
          </a:xfrm>
          <a:prstGeom prst="cloudCallout">
            <a:avLst>
              <a:gd name="adj1" fmla="val -58273"/>
              <a:gd name="adj2" fmla="val 1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ff"/>
                </a:solidFill>
                <a:latin typeface="Jokerman"/>
              </a:rPr>
              <a:t>YUP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819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438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057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90000" y="3048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38080" y="2514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447200" y="2438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4952880"/>
            <a:ext cx="7596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4495680"/>
            <a:ext cx="763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8080" y="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ff0000"/>
                </a:solidFill>
                <a:latin typeface="Matisse ITC"/>
              </a:rPr>
              <a:t>I fRUTTI di M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1648440" y="152280"/>
            <a:ext cx="81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0000"/>
                </a:solidFill>
                <a:latin typeface="Chiller"/>
              </a:rPr>
              <a:t>Marina Ret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8360" y="1371600"/>
            <a:ext cx="949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0000"/>
                </a:solidFill>
                <a:latin typeface="Chiller"/>
              </a:rPr>
              <a:t>Nella Parte di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84080" y="3124080"/>
            <a:ext cx="60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0" spc="-1" strike="noStrike" u="sng">
                <a:solidFill>
                  <a:srgbClr val="ff99ff"/>
                </a:solidFill>
                <a:uFillTx/>
                <a:latin typeface="Harlow Solid Italic"/>
              </a:rPr>
              <a:t>Marinaret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3529080" cy="358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3600" y="4876920"/>
            <a:ext cx="990720" cy="990360"/>
          </a:xfrm>
          <a:custGeom>
            <a:avLst/>
            <a:gdLst>
              <a:gd name="textAreaLeft" fmla="*/ 232920 w 990720"/>
              <a:gd name="textAreaRight" fmla="*/ 757440 w 99072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1494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5:11:09Z</dcterms:created>
  <dc:creator> </dc:creator>
  <dc:description/>
  <dc:language>en-US</dc:language>
  <cp:lastModifiedBy>ANTI</cp:lastModifiedBy>
  <dcterms:modified xsi:type="dcterms:W3CDTF">2005-04-06T10:55:40Z</dcterms:modified>
  <cp:revision>48</cp:revision>
  <dc:subject/>
  <dc:title>Diapositiva 1</dc:title>
</cp:coreProperties>
</file>